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28E-31C7-4073-AD6C-A1588E3E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FA8-18A7-4EBF-A198-62D10FDA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4FC-53D6-4AED-B84C-5DF400A9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AD3-9F8E-4544-BCE6-959C6408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731F-FA9A-4A19-8735-787404A4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6A28-E82A-45EA-883A-866E8FF0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D883-8B8F-432B-AAF5-86503CB7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5E93-F87E-48DD-91C7-E114F485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0663-BB91-4848-B0C4-16D3E22C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9C43-3169-43B6-B6D6-75851227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3980-614F-4329-97A4-8B9B9C03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42E-2EB3-4751-9BFE-B4D1FC38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4892-621A-4176-9D82-16D875FD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9712-23B2-40D0-A356-4F0243EE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14B6-E374-4E3A-A2BE-7C427EF2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AF18-5547-46EA-956D-5B193D9E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D338-8460-4F39-9C87-086A9065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3D4-43A3-44F3-BB77-203D7D83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535-630A-48BD-99FC-838EAA7A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AD2-150D-4005-B01C-9D25FDCE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405-98C1-4DEB-B292-A1ADD911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AC6-5E2C-412A-9662-716734B7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B32-A6D8-4687-B49F-69D81021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877-FF43-4A25-9511-DF226058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85A9-9606-42BA-9D0E-69C2FEE12BA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DC81-DDC8-40B4-A0FB-2FE861753C8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3d7a"/>
                </a:solidFill>
                <a:latin typeface="Subway"/>
              </a:rPr>
              <a:t>Living Things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Task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Sub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Everyo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Make a list of the 7 characteristics of Living Things (MRS NERG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Make a list of the 5 Kingdoms of Living Things (try to write an example for each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Sub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Extens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Research one of the 5 Kingdoms in more detai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-533160">
              <a:lnSpc>
                <a:spcPct val="10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Make a poster / fact page / fact fil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10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7188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4876920"/>
            <a:ext cx="3276720" cy="1752480"/>
          </a:xfrm>
          <a:prstGeom prst="cloudCallout">
            <a:avLst>
              <a:gd name="adj1" fmla="val -75194"/>
              <a:gd name="adj2" fmla="val -13314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Subway"/>
              </a:rPr>
              <a:t>If you get stuck use the key word lists and information on your table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Subway"/>
              </a:rPr>
              <a:t>How do we know is something is ‘living’?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All living things are characterised as being able to do </a:t>
            </a:r>
            <a:r>
              <a:rPr b="0" lang="en-US" sz="2000" spc="-1" strike="noStrike" u="sng">
                <a:solidFill>
                  <a:srgbClr val="5b5249"/>
                </a:solidFill>
                <a:uFillTx/>
                <a:latin typeface="Subway"/>
              </a:rPr>
              <a:t>seven</a:t>
            </a: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 thing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These are usually remembered by the mnemonic MRS NER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M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R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R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Subway"/>
              </a:rPr>
              <a:t>G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4114800"/>
            <a:ext cx="28195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Subway"/>
              </a:rPr>
              <a:t>Can you guess what these letters stand for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The 7 characteristics of Living Th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M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ovement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Animals move to find food and keep away from predators, plants move to face the ligh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R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eproduction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the ability to produce offspring to keep the species in existen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S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ensitivity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responding and reacting to the environmen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N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utrition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Animals need food for respiration, plants need minerals from the soil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E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xcretion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Getting rid of was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R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espiration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Turning food into energy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ubway"/>
              </a:rPr>
              <a:t>G</a:t>
            </a: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rowth – 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Growing larger and stronger </a:t>
            </a:r>
            <a:r>
              <a:rPr b="0" lang="en-US" sz="1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b5249"/>
                </a:solidFill>
                <a:latin typeface="Subway"/>
              </a:rPr>
              <a:t> becoming adult siz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Classification of Living Thing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371600"/>
            <a:ext cx="2590560" cy="1676520"/>
          </a:xfrm>
          <a:prstGeom prst="wedgeRoundRectCallout">
            <a:avLst>
              <a:gd name="adj1" fmla="val -38236"/>
              <a:gd name="adj2" fmla="val 68277"/>
              <a:gd name="adj3" fmla="val 16667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Subway"/>
              </a:rPr>
              <a:t>Everything that is living can be sorted into these 5 kingdom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4922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a3d7a"/>
                </a:solidFill>
                <a:latin typeface="Times New Roman"/>
              </a:rPr>
              <a:t>Kingdom Moner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68240" y="32004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a3d7a"/>
                </a:solidFill>
                <a:latin typeface="Times New Roman"/>
              </a:rPr>
              <a:t>Protist Kingd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27640" y="443700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Fungi Kingd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551664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Plant Kingd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1640" y="43657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Animal Kingd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Kingdom Monera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Tiny, single-celled organism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Do not have a nucle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E.g. bacter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536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67280" y="3559320"/>
            <a:ext cx="295596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Protist Kingdo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Single-celled organisms with a nucle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Live in damp places of wa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E.g. amoeb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4784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59280" y="4221000"/>
            <a:ext cx="356400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Fungi Kingdo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Body is made up of a network of threads called hypha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E.g moulds, mushroom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7196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58120" y="3860640"/>
            <a:ext cx="20937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Plant Kingdo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Multicellular – made up of lots of cel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Make their own food by photosynthesi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Subway"/>
              </a:rPr>
              <a:t>Lots of examples: flowering plants / non-flowering pla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387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955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24360" y="4049640"/>
            <a:ext cx="30499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Subway"/>
              </a:rPr>
              <a:t>Animal Kingdo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Multicellular – made up of may specialised cel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Cannot make own foo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Subway"/>
              </a:rPr>
              <a:t>Can be further classified into vertebrates and non-vertebrates then into classes such as amphibians, reptiles, birds, mamma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5264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8568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27640" y="4967280"/>
            <a:ext cx="24336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6:47:01Z</dcterms:created>
  <dc:creator>SEC</dc:creator>
  <dc:description/>
  <dc:language>en-US</dc:language>
  <cp:lastModifiedBy>Pitchford</cp:lastModifiedBy>
  <dcterms:modified xsi:type="dcterms:W3CDTF">2006-11-01T13:55:45Z</dcterms:modified>
  <cp:revision>7</cp:revision>
  <dc:subject/>
  <dc:title>Living Things</dc:title>
</cp:coreProperties>
</file>